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77600" cy="89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4010040" y="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98520" y="671040"/>
            <a:ext cx="4479840" cy="335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0" y="8507160"/>
            <a:ext cx="30672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4010040" y="8507160"/>
            <a:ext cx="30672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6303E-9CFB-4874-8261-2EB2ADC1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55E8A2-DC9B-4412-9981-8845A4406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software applications can read all the various picture formats.  For example, PowerPoint can’t read a png file (which is a picture created using Fireworks) nor can Dreamweaver read a bmp (picture created using Microsoft Pai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DDE063-C6C1-4898-9CB3-21B74DD8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510660-ABED-49A2-8118-434E74308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if you choose the wrong application, the document will open but there will just be squares or other symbols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E4301A-38E2-4CA0-8D12-FB311103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BC327-8951-4251-B21A-87752B77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EBC4C-D341-45FD-A3EB-6AB4FEBB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0B64D2-D18F-48DC-892A-2F4A7114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2D9EB-CF7A-46B3-8046-011A605F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8C4BCA-F271-4283-B939-513856180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49E36-FFD5-478B-9CE0-9695416D2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A5E0C1-3EE6-49C3-9E5F-2BBDD8C16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143667-ADA5-4D0C-B18C-76CBEC7F2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70CB22-BD74-4EAC-9A21-6EF4172D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464594-B44C-4C6B-91BB-2C1A1CA1F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D6A74-F20C-4827-83F9-BFEE67DA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F88B03-1BE9-41EB-8119-DAAC2C1EC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C052E-B4E4-455F-9D15-B820D645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9C62E-F202-4EED-99AD-4645A38EE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9E7BA-E3A3-4A79-A23A-C68437FFB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BCF16C-9D2F-4140-A668-BD6526E76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6E939-A84E-476B-96BD-681B2ABF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C89-E6F2-402C-B7B6-7C1B9C7D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38F-0B15-479E-8403-58F283E2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146-B18B-4C10-8107-1809D02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CDC-0530-4081-967F-D91D7CF7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6BE00-1914-48AC-9DA5-376789776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9D54C-880D-440F-BC05-94BAEC08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C392-F616-445C-839E-D1B45C5A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61F82-D2C7-45A3-9D1A-10D696FD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6E4EB-8022-4912-99D0-59099E83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6248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E21FB-2837-440C-9D3A-86B9456A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5A481-39F8-49FB-A591-F2727D6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259-4B68-4397-A083-DFE925BE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D8B0B-3DCD-4892-926B-2FF3F0A5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33F94-6A98-4094-8356-38C23F3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1EA3-F98E-4806-BDD2-9F73B6F1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ED74B-5261-438E-A218-BAD1B8E8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757C3-731A-4F6E-B707-4CD5317890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141-57F7-4438-8AC8-1038043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C18-F6FD-43B9-813C-7E75169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D5E-62A8-474D-B27D-7962F479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6248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2A4-BCEA-4302-9E07-4E994FAF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4FC-E59A-4B41-BD2D-81308D60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80E-2307-40B9-A398-338FF95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424-3637-4F8C-8BD3-43D5AAB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UNT in partnership with 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: [Course Name] - [Lesson Titl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751A-A7CC-447E-88D6-76FDD5367B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IT Logo.jpg"/>
          <p:cNvPicPr/>
          <p:nvPr/>
        </p:nvPicPr>
        <p:blipFill>
          <a:blip r:embed="rId2"/>
          <a:stretch/>
        </p:blipFill>
        <p:spPr>
          <a:xfrm>
            <a:off x="6705720" y="380880"/>
            <a:ext cx="1914480" cy="8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40"/>
          <p:cNvSpPr/>
          <p:nvPr/>
        </p:nvSpPr>
        <p:spPr>
          <a:xfrm>
            <a:off x="533520" y="2819520"/>
            <a:ext cx="8001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" name="Picture 9" descr="IT Logo.jpg"/>
          <p:cNvPicPr/>
          <p:nvPr/>
        </p:nvPicPr>
        <p:blipFill>
          <a:blip r:embed="rId2"/>
          <a:stretch/>
        </p:blipFill>
        <p:spPr>
          <a:xfrm>
            <a:off x="6553080" y="457200"/>
            <a:ext cx="1914480" cy="88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UNT in partnership with 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EAF8-95D6-488A-A083-188099FB8F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4572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806F-4708-4F83-88D7-EA5B42929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166680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inciples of Information Technology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304956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Identifying File Types, Purposes &amp; Exten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Pictures, images and graphics can also be identified by their extension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ommon graphic extensions are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bmp - bitma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gif – Graphics Interchange Forma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jpg or .jpeg – Joint Photographic Experts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tiff – Tagged Image File Forma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png – Portable Network Graphi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E87C-72B4-4FCC-83A2-BB4156268B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oosing the Right 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4475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Depending on the type of view in the  window, you can see the application name in the lis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3D09-EE33-4F82-8D36-6291699ACF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7315200" cy="2971800"/>
          </a:xfrm>
          <a:prstGeom prst="rect">
            <a:avLst/>
          </a:prstGeom>
          <a:ln w="0">
            <a:noFill/>
          </a:ln>
        </p:spPr>
      </p:pic>
      <p:cxnSp>
        <p:nvCxnSpPr>
          <p:cNvPr id="147" name="Straight Arrow Connector 8"/>
          <p:cNvCxnSpPr/>
          <p:nvPr/>
        </p:nvCxnSpPr>
        <p:spPr>
          <a:xfrm flipH="1">
            <a:off x="5333760" y="2438280"/>
            <a:ext cx="305280" cy="1067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oosing the Right 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hoose the correct application to open your file according to its type and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 or .docx extension means that you should choose Microsoft Word to open the file.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f you choose the wrong application you will get an error message like this one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259-8B95-497B-B611-CEE5D1836B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971800" y="4962600"/>
            <a:ext cx="300024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Purpo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4572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362320" y="6248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95D4-011C-4B91-98BA-7595C04505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757520"/>
          <a:ext cx="8229600" cy="3882960"/>
        </p:xfrm>
        <a:graphic>
          <a:graphicData uri="http://schemas.openxmlformats.org/drawingml/2006/table">
            <a:tbl>
              <a:tblPr/>
              <a:tblGrid>
                <a:gridCol w="2438280"/>
                <a:gridCol w="2819520"/>
                <a:gridCol w="2971800"/>
              </a:tblGrid>
              <a:tr h="79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/ Application Nam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 of the Applic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 of Documents Created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8a8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Wo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Process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tters and repor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Exce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she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tables and char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Publish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ktop Publish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ers and Newsletter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PowerPoi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show Presentation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s, Forms, Queries, Repor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lders are a great way to help you organize your fi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create a new folde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vigate to the disc or drive where you save your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on the File o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New from the drop down men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Fol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ype in the name you want to give your fol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something descriptive that will help you identify the contents of the fold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A604-CF6B-4041-B586-6B540DAC99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create as many folders as you ne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ould create a folder named Word Processing then save all your letters and reports in this fol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ould create folders named for each of the classes you are taking this 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are many different ways to organize folders and fi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he method according to your instructor’s direction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A0FD-A136-4063-8095-4205BF6F39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1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create a copy of an existing fil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on the fil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in a blank area of the scre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s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ou will see the original file and the copied file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opied file will have the wo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 the fil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6797-23CD-4D01-A094-4A044C48D6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38616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160" y="14475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rename an existing fil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on the fil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filename will then be highlighted – just start typing the new 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 sure to leave the extension and the period in front of i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ke the enter key when finish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9277-60F5-41D7-8481-ACF861D519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6479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160" y="144792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delete an existing file or folde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on the filename or folder 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You will get a delete file message asking if you are sure you want to permanently delete this fi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YES to delete the fi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8DC8-093A-47D2-8EF6-A473C86030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33720" y="3860640"/>
            <a:ext cx="4724280" cy="21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sson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56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n application software is a computer program that performs a specific function(s) for the user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 group of applications packaged together are called a Su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 file type can be identified by looking at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ample:   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avings.xls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is an Excel spreadsheet f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989A-CC2B-4E72-BBED-342DB34A70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KS Corre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5) The student demonstrates knowledge of the different software associated with information systems. The student is expected 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F) demonstrate understanding of file extensions and the purpose of file types across software products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H) identify appropriate use of application software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L) demonstrate proper file management techniques such as creating, naming, organizing, copying, moving, and deleting fi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04EB-EA56-4A51-A4FA-4296332C9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sson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Various software applications perform different functions and are used for different purpos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lders are created and named appropriately to help organize fil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les and Folders can be created, named, renamed, moved and deleted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AAE6-F092-4A39-B0B9-1E19811E31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4572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180-7719-4673-A7D6-07CB780B9E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66680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End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sson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Define and give examples of application software and application suit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dentify a file type by looking at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dentify the specific application software needed to open a given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dentify the uses for a given application softwar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Demonstrate how to create, name, organize, copy, move, and delete files and fold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E40-B2EB-4240-88DA-40EDDBCF0D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’ve got an app for that” - App is short for application softwar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pplication software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 computer program that performs a specific function(s) for the user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 group of applications packaged together are called a Sui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CFF5-436C-41DF-A0A0-71B597A9AE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xamples of application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Google Earth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pplication software locates and gives a virtual picture of any place on ear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Windows Media Player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pplication software plays songs and vide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xamples of Suite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Microsoft Office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s a package that bundles Word, Excel, PowerPoint, Publisher and Access together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dobe offers various Suites containing Photoshop, Flash, and other Designing application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6B76-943D-420E-8F54-A24570CAB2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Using the “my computer” icon or “my files” icon/folder, you can view a list of files contained on your computer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ach file displays an icon, the filename, and an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filename is followed by a period and then an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0DA9-1DD3-4597-AA0E-2069775F82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514600" y="4952880"/>
            <a:ext cx="388620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can identify a file by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  and .docx are Microsoft Word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 represents a Word document created for version 2003 or les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x represents a Word document created for version 2007 or higher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0EE-55BE-4149-B1A5-9B71DD7FCF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can identify a file by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xls  and .xlsx are Microsoft Excel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mdb  and .accd are Microsoft Access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pub  and .pubx are Microsoft Publisher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ppt  and .pptx are Microsoft PowerPoint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65B-AF7C-4572-9EBC-7D12889543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can identify a file by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psd represents an Adobe Photoshop docume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fla represents an Adobe Flash docume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avi represents an audio or vide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wav represents an audi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mp3 represents an audi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wmv represents a vide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103D-22FA-49A5-9EBA-E18943C2C4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acy</dc:creator>
  <dc:description/>
  <dc:language>en-US</dc:language>
  <cp:lastModifiedBy>DeSoto ISD</cp:lastModifiedBy>
  <dcterms:modified xsi:type="dcterms:W3CDTF">2012-01-23T16:32:19Z</dcterms:modified>
  <cp:revision>138</cp:revision>
  <dc:subject/>
  <dc:title>PowerPoint Presentation</dc:title>
</cp:coreProperties>
</file>